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A85-5AA5-4B33-A9D7-C265BBFA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1F8-DFE7-43E1-95EC-DA15E73A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0AA-3014-45C8-8108-964E8049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969-969D-4628-83A9-5D205396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8431-5093-424A-A628-02B0FD71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1730-940B-4461-967C-9C752005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6075-385A-46F6-8F07-126B0FAD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1535-0244-41ED-97AB-52781E2C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3E85-D140-488E-9C57-CCFA5135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2C4F-93F9-4C1D-A523-2E84E1AC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883F-ED14-41E6-AA5C-8572087A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9404-9162-4C3E-8368-892D6741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3318-2280-447E-B8AC-6E07ECA1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6EBD-3E6B-4667-82B4-1D777934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A081-F658-412F-A8E2-D96BC9C7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6F56-0E91-42E4-84AF-1FDE71E4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D6E6-3083-438C-B96C-135D03D9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9913-657B-4DBE-BA56-EE3F9CC4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398-90E8-4A36-A871-FFF34C67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633-901A-4DD8-A79C-1DCADB63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496-1B1E-47FF-96BB-E6330EBB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22C-4082-40BD-B710-B4029A8E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D4F-E1E6-403A-9123-07003046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56D-EFBD-4A88-81B5-9B18A0DD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891D-2C68-4074-92AF-35A0F7C273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555B-0D45-414A-8E65-5D3506819B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Preterm Delivery:  An Update on Prevention and Treatment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ra Lehman, MD MPH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CRM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June 3, 2009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gnesium Sulfate: Friend of Fo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colytics have never been shown to significantly prolong lab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rge meta-analyses of Mg++ have failed to show even the 48hr delay of delivery necessary for steroid administr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ta-blockers delay c. 48h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lcium channel blockers delay 1-4 days, with less side effe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mhan et al (NEJM August 2007) recommended </a:t>
            </a: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AGAINS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Mg++ use for preterm lab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rvical Length for screening of High Risk Pati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V sono with EMPTY BLADDER 16-20 week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&gt;3 cm is reassur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&lt;/=2.5 cm is concerning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rial son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Cerclage in pre-vi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eroi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F mod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&lt;/=1.5 cm is the highest risk group where treatment shown to improve outcom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gesterone supplementation (OR 0.56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gnesium and Neonatal Neuroprote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ouse et al (NEJM Aug 2008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241 women in preterm labor with expected delivery 24-31 weeks randomized to Mg++ or placeb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difference in overall CP (11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crease in moderate - severe CP 1.9% vs. 3.5% (OR 0.5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difference in neonatal dea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life threatening maternal com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dentify risk factors for PTD that can be modified in prenatal c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scribe the use of progesterone to prevent PT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nderstand the use of FFN and cervical length in the diagnosis of preterm lab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 familiar with the controversy surrounding Magnesium Sulfate as the go to drug in PT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mportance of Preterm Bir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lications of prematurity/preterm birth are the number one cause of neonatal mortality in the U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re 12% of births are preterm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(&lt;37 week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ate of preterm birth has been steadily rising since 198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stimated $13.6 billion in health care expenditure in 200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story of preterm delive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ternal age (extreme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ultifetal gestations/A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lyhydramni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ervical surgery/LEEP/D&amp;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terine anomalies/Lyoma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bstance abuse (cocaine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w S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isk Factors – What we can cha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gnancy Interval of &lt;6m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bac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ance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5%in polysubstance us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em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&lt; 9.5 at 12 week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Work Stress Ind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&gt;36 hrs/week, prolonged standing, heavy lifting, skipped meal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ital Inf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GC/CT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V – maybe in select group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richomonas - only for symptom contro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YMPTOMATIC BACTU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esterone and the prevention of recurrent preterm birth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is et al (NEJM 2003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59 women with history of PT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50 mg IM weekly 17 alpha-hydroxyprogesterone caproate vs. placeb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6-20 weeks through 36 wee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R 0.66 in treatment gro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so showed decreased NEC, IVH, O2 needs in treatment gro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ultiple others have confirmed decreased PTD if started up to 26 week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esterone and the prevention of recurrent preterm birth - limit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ta-analyses have NOT confirmed the decrease in the complications of prematur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7 alpha-OH progesterone no longer manufactured in U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cent studies focused on vaginal progesterone gel have not found a benefi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arly cessation increases risk of PTD (OR 2.11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 role in prolonging multifetal or FFN + pregnanc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is of Preterm Labor : FF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ophoblast glue present in cervical secretions prior to 20 wks gestation and at ter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sent between 22 and 34 wee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egative predictive value of 99.5% for 7 days and 99.2% for 14 d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sitive predictive value is ONLY 29%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n use to direct steroid administr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NT to prevent RDS = 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agnosis of Preterm Labor: Cervical Leng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ervical length of &gt;3 cm has a NPV of nearly 100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ervical length of &lt;/= 2.5 cm has a strong association with PTD and warrants active manag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5 -3 cm is a grey zone where FFN can guide steroid us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3:13:53Z</dcterms:created>
  <dc:creator>o</dc:creator>
  <dc:description/>
  <dc:language>en-US</dc:language>
  <cp:lastModifiedBy>o</cp:lastModifiedBy>
  <dcterms:modified xsi:type="dcterms:W3CDTF">2009-06-03T06:54:24Z</dcterms:modified>
  <cp:revision>7</cp:revision>
  <dc:subject/>
  <dc:title>Preterm Delivery:  An Update on Prevention and Treatment</dc:title>
</cp:coreProperties>
</file>